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03091-3FFE-40AC-ADC0-117BBA61F6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2320" y="990720"/>
            <a:ext cx="914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2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9144000" cy="2035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93600" bIns="0" anchor="t">
            <a:normAutofit/>
          </a:bodyPr>
          <a:p>
            <a:pPr indent="0">
              <a:spcBef>
                <a:spcPts val="1536"/>
              </a:spcBef>
              <a:buNone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0" lang="en-US" sz="21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80880" y="4210200"/>
            <a:ext cx="9144000" cy="2035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93600" bIns="0" anchor="t">
            <a:normAutofit/>
          </a:bodyPr>
          <a:p>
            <a:pPr indent="0">
              <a:spcBef>
                <a:spcPts val="1536"/>
              </a:spcBef>
              <a:buNone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0" lang="en-US" sz="21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2C028-7BB8-48D9-83DB-3BF5468A0D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2320" y="990720"/>
            <a:ext cx="914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2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462200" cy="2035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93600" bIns="0" anchor="t">
            <a:normAutofit/>
          </a:bodyPr>
          <a:p>
            <a:pPr indent="0">
              <a:spcBef>
                <a:spcPts val="1536"/>
              </a:spcBef>
              <a:buNone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0" lang="en-US" sz="21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66640" y="1981080"/>
            <a:ext cx="4462200" cy="2035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93600" bIns="0" anchor="t">
            <a:normAutofit/>
          </a:bodyPr>
          <a:p>
            <a:pPr indent="0">
              <a:spcBef>
                <a:spcPts val="1536"/>
              </a:spcBef>
              <a:buNone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0" lang="en-US" sz="21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80880" y="4210200"/>
            <a:ext cx="4462200" cy="2035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93600" bIns="0" anchor="t">
            <a:normAutofit/>
          </a:bodyPr>
          <a:p>
            <a:pPr indent="0">
              <a:spcBef>
                <a:spcPts val="1536"/>
              </a:spcBef>
              <a:buNone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0" lang="en-US" sz="21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066640" y="4210200"/>
            <a:ext cx="4462200" cy="2035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93600" bIns="0" anchor="t">
            <a:normAutofit/>
          </a:bodyPr>
          <a:p>
            <a:pPr indent="0">
              <a:spcBef>
                <a:spcPts val="1536"/>
              </a:spcBef>
              <a:buNone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0" lang="en-US" sz="21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10B13-BBCE-4139-AEF6-B0BF6BF470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2320" y="990720"/>
            <a:ext cx="914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2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944080" cy="2035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93600" bIns="0" anchor="t">
            <a:normAutofit/>
          </a:bodyPr>
          <a:p>
            <a:pPr indent="0">
              <a:spcBef>
                <a:spcPts val="1536"/>
              </a:spcBef>
              <a:buNone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0" lang="en-US" sz="21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472560" y="1981080"/>
            <a:ext cx="2944080" cy="2035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93600" bIns="0" anchor="t">
            <a:normAutofit/>
          </a:bodyPr>
          <a:p>
            <a:pPr indent="0">
              <a:spcBef>
                <a:spcPts val="1536"/>
              </a:spcBef>
              <a:buNone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0" lang="en-US" sz="21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564240" y="1981080"/>
            <a:ext cx="2944080" cy="2035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93600" bIns="0" anchor="t">
            <a:normAutofit/>
          </a:bodyPr>
          <a:p>
            <a:pPr indent="0">
              <a:spcBef>
                <a:spcPts val="1536"/>
              </a:spcBef>
              <a:buNone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0" lang="en-US" sz="21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380880" y="4210200"/>
            <a:ext cx="2944080" cy="2035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93600" bIns="0" anchor="t">
            <a:normAutofit/>
          </a:bodyPr>
          <a:p>
            <a:pPr indent="0">
              <a:spcBef>
                <a:spcPts val="1536"/>
              </a:spcBef>
              <a:buNone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0" lang="en-US" sz="21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472560" y="4210200"/>
            <a:ext cx="2944080" cy="2035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93600" bIns="0" anchor="t">
            <a:normAutofit/>
          </a:bodyPr>
          <a:p>
            <a:pPr indent="0">
              <a:spcBef>
                <a:spcPts val="1536"/>
              </a:spcBef>
              <a:buNone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0" lang="en-US" sz="21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564240" y="4210200"/>
            <a:ext cx="2944080" cy="2035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93600" bIns="0" anchor="t">
            <a:normAutofit/>
          </a:bodyPr>
          <a:p>
            <a:pPr indent="0">
              <a:spcBef>
                <a:spcPts val="1536"/>
              </a:spcBef>
              <a:buNone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0" lang="en-US" sz="21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9DFC1-4ABD-4F93-9DD0-6F80937BD9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2320" y="990720"/>
            <a:ext cx="914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2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380880" y="1981080"/>
            <a:ext cx="9144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36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0" lang="en-US" sz="21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8D8E0-95EA-43B1-B31E-D7731A0729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2320" y="990720"/>
            <a:ext cx="914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2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9144000" cy="4267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93600" bIns="0" anchor="t">
            <a:normAutofit/>
          </a:bodyPr>
          <a:p>
            <a:pPr indent="0">
              <a:spcBef>
                <a:spcPts val="1536"/>
              </a:spcBef>
              <a:buNone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0" lang="en-US" sz="21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71C2F-F162-451F-AE7E-E9A88CD69F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2320" y="990720"/>
            <a:ext cx="914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2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462200" cy="4267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93600" bIns="0" anchor="t">
            <a:normAutofit/>
          </a:bodyPr>
          <a:p>
            <a:pPr indent="0">
              <a:spcBef>
                <a:spcPts val="1536"/>
              </a:spcBef>
              <a:buNone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0" lang="en-US" sz="21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6640" y="1981080"/>
            <a:ext cx="4462200" cy="4267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93600" bIns="0" anchor="t">
            <a:normAutofit/>
          </a:bodyPr>
          <a:p>
            <a:pPr indent="0">
              <a:spcBef>
                <a:spcPts val="1536"/>
              </a:spcBef>
              <a:buNone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0" lang="en-US" sz="21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4DB5F-DAB2-4A77-8EB9-DD3F092ACF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2320" y="990720"/>
            <a:ext cx="914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2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AE058-BFC9-43F5-A8FD-DC67B478B1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382320" y="990720"/>
            <a:ext cx="91422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36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0" lang="en-US" sz="21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21972-F679-46C6-99C9-C8D676B9CC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2320" y="990720"/>
            <a:ext cx="914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2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462200" cy="2035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93600" bIns="0" anchor="t">
            <a:normAutofit/>
          </a:bodyPr>
          <a:p>
            <a:pPr indent="0">
              <a:spcBef>
                <a:spcPts val="1536"/>
              </a:spcBef>
              <a:buNone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0" lang="en-US" sz="21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6640" y="1981080"/>
            <a:ext cx="4462200" cy="4267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93600" bIns="0" anchor="t">
            <a:normAutofit/>
          </a:bodyPr>
          <a:p>
            <a:pPr indent="0">
              <a:spcBef>
                <a:spcPts val="1536"/>
              </a:spcBef>
              <a:buNone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0" lang="en-US" sz="21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4210200"/>
            <a:ext cx="4462200" cy="2035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93600" bIns="0" anchor="t">
            <a:normAutofit/>
          </a:bodyPr>
          <a:p>
            <a:pPr indent="0">
              <a:spcBef>
                <a:spcPts val="1536"/>
              </a:spcBef>
              <a:buNone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0" lang="en-US" sz="21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6C576-5D31-45DF-8240-B8118CA760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2320" y="990720"/>
            <a:ext cx="914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2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462200" cy="4267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93600" bIns="0" anchor="t">
            <a:normAutofit/>
          </a:bodyPr>
          <a:p>
            <a:pPr indent="0">
              <a:spcBef>
                <a:spcPts val="1536"/>
              </a:spcBef>
              <a:buNone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0" lang="en-US" sz="21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6640" y="1981080"/>
            <a:ext cx="4462200" cy="2035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93600" bIns="0" anchor="t">
            <a:normAutofit/>
          </a:bodyPr>
          <a:p>
            <a:pPr indent="0">
              <a:spcBef>
                <a:spcPts val="1536"/>
              </a:spcBef>
              <a:buNone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0" lang="en-US" sz="21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66640" y="4210200"/>
            <a:ext cx="4462200" cy="2035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93600" bIns="0" anchor="t">
            <a:normAutofit/>
          </a:bodyPr>
          <a:p>
            <a:pPr indent="0">
              <a:spcBef>
                <a:spcPts val="1536"/>
              </a:spcBef>
              <a:buNone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0" lang="en-US" sz="21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EA112-7E10-4C2F-8D90-6FE32E203C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2320" y="990720"/>
            <a:ext cx="914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2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462200" cy="2035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93600" bIns="0" anchor="t">
            <a:normAutofit/>
          </a:bodyPr>
          <a:p>
            <a:pPr indent="0">
              <a:spcBef>
                <a:spcPts val="1536"/>
              </a:spcBef>
              <a:buNone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0" lang="en-US" sz="21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66640" y="1981080"/>
            <a:ext cx="4462200" cy="2035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93600" bIns="0" anchor="t">
            <a:normAutofit/>
          </a:bodyPr>
          <a:p>
            <a:pPr indent="0">
              <a:spcBef>
                <a:spcPts val="1536"/>
              </a:spcBef>
              <a:buNone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0" lang="en-US" sz="21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80880" y="4210200"/>
            <a:ext cx="9144000" cy="2035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93600" bIns="0" anchor="t">
            <a:normAutofit/>
          </a:bodyPr>
          <a:p>
            <a:pPr indent="0">
              <a:spcBef>
                <a:spcPts val="1536"/>
              </a:spcBef>
              <a:buNone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endParaRPr b="0" lang="en-US" sz="21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3E191-A94A-44BC-805D-9637EF67B0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7169040" y="0"/>
            <a:ext cx="2735280" cy="685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413" y="938"/>
                  <a:pt x="5226" y="5080"/>
                  <a:pt x="5226" y="10800"/>
                </a:cubicBezTo>
                <a:cubicBezTo>
                  <a:pt x="5226" y="16520"/>
                  <a:pt x="13413" y="20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0af00">
                  <a:alpha val="4235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400" spc="-1" strike="noStrike">
              <a:solidFill>
                <a:srgbClr val="004785"/>
              </a:solidFill>
              <a:latin typeface="Arial"/>
            </a:endParaRPr>
          </a:p>
        </p:txBody>
      </p:sp>
      <p:grpSp>
        <p:nvGrpSpPr>
          <p:cNvPr id="1" name="Group 123"/>
          <p:cNvGrpSpPr/>
          <p:nvPr/>
        </p:nvGrpSpPr>
        <p:grpSpPr>
          <a:xfrm>
            <a:off x="151920" y="1700280"/>
            <a:ext cx="9601560" cy="4952880"/>
            <a:chOff x="151920" y="1700280"/>
            <a:chExt cx="9601560" cy="4952880"/>
          </a:xfrm>
        </p:grpSpPr>
        <p:grpSp>
          <p:nvGrpSpPr>
            <p:cNvPr id="2" name="Group 117"/>
            <p:cNvGrpSpPr/>
            <p:nvPr/>
          </p:nvGrpSpPr>
          <p:grpSpPr>
            <a:xfrm>
              <a:off x="152280" y="1700280"/>
              <a:ext cx="9601200" cy="4952880"/>
              <a:chOff x="152280" y="1700280"/>
              <a:chExt cx="9601200" cy="4952880"/>
            </a:xfrm>
          </p:grpSpPr>
          <p:sp>
            <p:nvSpPr>
              <p:cNvPr id="3" name="Line 36"/>
              <p:cNvSpPr/>
              <p:nvPr/>
            </p:nvSpPr>
            <p:spPr>
              <a:xfrm>
                <a:off x="152280" y="1981080"/>
                <a:ext cx="96012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004785"/>
                  </a:solidFill>
                  <a:latin typeface="Arial"/>
                </a:endParaRPr>
              </a:p>
            </p:txBody>
          </p:sp>
          <p:sp>
            <p:nvSpPr>
              <p:cNvPr id="4" name="Line 37"/>
              <p:cNvSpPr/>
              <p:nvPr/>
            </p:nvSpPr>
            <p:spPr>
              <a:xfrm>
                <a:off x="152280" y="6248520"/>
                <a:ext cx="96012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004785"/>
                  </a:solidFill>
                  <a:latin typeface="Arial"/>
                </a:endParaRPr>
              </a:p>
            </p:txBody>
          </p:sp>
          <p:sp>
            <p:nvSpPr>
              <p:cNvPr id="5" name="Line 38"/>
              <p:cNvSpPr/>
              <p:nvPr/>
            </p:nvSpPr>
            <p:spPr>
              <a:xfrm flipV="1">
                <a:off x="380880" y="1700280"/>
                <a:ext cx="0" cy="4952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4785"/>
                  </a:solidFill>
                  <a:latin typeface="Arial"/>
                </a:endParaRPr>
              </a:p>
            </p:txBody>
          </p:sp>
          <p:sp>
            <p:nvSpPr>
              <p:cNvPr id="6" name="Line 39"/>
              <p:cNvSpPr/>
              <p:nvPr/>
            </p:nvSpPr>
            <p:spPr>
              <a:xfrm flipV="1">
                <a:off x="9524880" y="1700280"/>
                <a:ext cx="0" cy="4952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4785"/>
                  </a:solidFill>
                  <a:latin typeface="Arial"/>
                </a:endParaRPr>
              </a:p>
            </p:txBody>
          </p:sp>
        </p:grpSp>
        <p:sp>
          <p:nvSpPr>
            <p:cNvPr id="7" name="Line 122"/>
            <p:cNvSpPr/>
            <p:nvPr/>
          </p:nvSpPr>
          <p:spPr>
            <a:xfrm flipH="1">
              <a:off x="151920" y="2514600"/>
              <a:ext cx="228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400" spc="-1" strike="noStrike">
                <a:solidFill>
                  <a:srgbClr val="004785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2320" y="990720"/>
            <a:ext cx="91422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4785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9" name="Rectangle 9"/>
          <p:cNvSpPr/>
          <p:nvPr/>
        </p:nvSpPr>
        <p:spPr>
          <a:xfrm>
            <a:off x="0" y="438120"/>
            <a:ext cx="8283600" cy="284040"/>
          </a:xfrm>
          <a:prstGeom prst="rect">
            <a:avLst/>
          </a:prstGeom>
          <a:gradFill rotWithShape="0">
            <a:gsLst>
              <a:gs pos="0">
                <a:srgbClr val="fdbf63"/>
              </a:gs>
              <a:gs pos="100000">
                <a:srgbClr val="fdbf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0" name="Text Box 33"/>
          <p:cNvSpPr/>
          <p:nvPr/>
        </p:nvSpPr>
        <p:spPr>
          <a:xfrm>
            <a:off x="0" y="188640"/>
            <a:ext cx="747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160" rIns="0" tIns="0" bIns="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31896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380880" y="1981080"/>
            <a:ext cx="9144000" cy="4267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93600" bIns="0" anchor="t">
            <a:normAutofit/>
          </a:bodyPr>
          <a:p>
            <a:pPr marL="351000" indent="-351000">
              <a:spcBef>
                <a:spcPts val="1536"/>
              </a:spcBef>
              <a:buClr>
                <a:srgbClr val="004785"/>
              </a:buClr>
              <a:buFont typeface="Wingdings" charset="2"/>
              <a:buChar char="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100" spc="-1" strike="noStrike">
                <a:solidFill>
                  <a:srgbClr val="004785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4785"/>
              </a:solidFill>
              <a:latin typeface="Arial"/>
            </a:endParaRPr>
          </a:p>
          <a:p>
            <a:pPr lvl="1" marL="351000" indent="-349560">
              <a:spcBef>
                <a:spcPts val="1536"/>
              </a:spcBef>
              <a:buClr>
                <a:srgbClr val="004785"/>
              </a:buClr>
              <a:buFont typeface="Wingdings" charset="2"/>
              <a:buChar char="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100" spc="-1" strike="noStrike">
                <a:solidFill>
                  <a:srgbClr val="004785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4785"/>
              </a:solidFill>
              <a:latin typeface="Arial"/>
            </a:endParaRPr>
          </a:p>
          <a:p>
            <a:pPr lvl="2" marL="701640" indent="-349200">
              <a:spcBef>
                <a:spcPts val="1536"/>
              </a:spcBef>
              <a:buClr>
                <a:srgbClr val="004785"/>
              </a:buClr>
              <a:buFont typeface="Arial"/>
              <a:buChar char="–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100" spc="-1" strike="noStrike">
                <a:solidFill>
                  <a:srgbClr val="004785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4785"/>
              </a:solidFill>
              <a:latin typeface="Arial"/>
            </a:endParaRPr>
          </a:p>
          <a:p>
            <a:pPr lvl="3" marL="1049400" indent="-347760">
              <a:spcBef>
                <a:spcPts val="1536"/>
              </a:spcBef>
              <a:buClr>
                <a:srgbClr val="004785"/>
              </a:buClr>
              <a:buFont typeface="Arial"/>
              <a:buChar char="–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100" spc="-1" strike="noStrike">
                <a:solidFill>
                  <a:srgbClr val="004785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4785"/>
              </a:solidFill>
              <a:latin typeface="Arial"/>
            </a:endParaRPr>
          </a:p>
          <a:p>
            <a:pPr lvl="4" marL="1398600" indent="-347760">
              <a:spcBef>
                <a:spcPts val="1536"/>
              </a:spcBef>
              <a:buClr>
                <a:srgbClr val="004785"/>
              </a:buClr>
              <a:buFont typeface="Arial"/>
              <a:buChar char="»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100" spc="-1" strike="noStrike">
                <a:solidFill>
                  <a:srgbClr val="004785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4785"/>
              </a:solidFill>
              <a:latin typeface="Arial"/>
            </a:endParaRPr>
          </a:p>
          <a:p>
            <a:pPr lvl="5" marL="1398600" indent="-347760">
              <a:spcBef>
                <a:spcPts val="1536"/>
              </a:spcBef>
              <a:buClr>
                <a:srgbClr val="004785"/>
              </a:buClr>
              <a:buFont typeface="Arial"/>
              <a:buChar char="»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100" spc="-1" strike="noStrike">
                <a:solidFill>
                  <a:srgbClr val="004785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4785"/>
              </a:solidFill>
              <a:latin typeface="Arial"/>
            </a:endParaRPr>
          </a:p>
          <a:p>
            <a:pPr lvl="6" marL="1398600" indent="-347760">
              <a:spcBef>
                <a:spcPts val="1536"/>
              </a:spcBef>
              <a:buClr>
                <a:srgbClr val="004785"/>
              </a:buClr>
              <a:buFont typeface="Arial"/>
              <a:buChar char="»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100" spc="-1" strike="noStrike">
                <a:solidFill>
                  <a:srgbClr val="004785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4785"/>
              </a:solidFill>
              <a:latin typeface="Arial"/>
            </a:endParaRPr>
          </a:p>
        </p:txBody>
      </p:sp>
      <p:pic>
        <p:nvPicPr>
          <p:cNvPr id="12" name="Picture 125" descr=""/>
          <p:cNvPicPr/>
          <p:nvPr/>
        </p:nvPicPr>
        <p:blipFill>
          <a:blip r:embed="rId2"/>
          <a:stretch/>
        </p:blipFill>
        <p:spPr>
          <a:xfrm>
            <a:off x="8913960" y="79200"/>
            <a:ext cx="900000" cy="424080"/>
          </a:xfrm>
          <a:prstGeom prst="rect">
            <a:avLst/>
          </a:prstGeom>
          <a:ln w="0">
            <a:noFill/>
          </a:ln>
        </p:spPr>
      </p:pic>
      <p:sp>
        <p:nvSpPr>
          <p:cNvPr id="13" name="Rectangle 9"/>
          <p:cNvSpPr/>
          <p:nvPr/>
        </p:nvSpPr>
        <p:spPr>
          <a:xfrm rot="18910200">
            <a:off x="8098920" y="286920"/>
            <a:ext cx="554040" cy="284400"/>
          </a:xfrm>
          <a:prstGeom prst="rect">
            <a:avLst/>
          </a:prstGeom>
          <a:gradFill rotWithShape="0">
            <a:gsLst>
              <a:gs pos="0">
                <a:srgbClr val="fdbf63"/>
              </a:gs>
              <a:gs pos="100000">
                <a:srgbClr val="fdbf63"/>
              </a:gs>
            </a:gsLst>
            <a:lin ang="80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4" name="Rectangle 9"/>
          <p:cNvSpPr/>
          <p:nvPr/>
        </p:nvSpPr>
        <p:spPr>
          <a:xfrm>
            <a:off x="-1440" y="436680"/>
            <a:ext cx="1714320" cy="284040"/>
          </a:xfrm>
          <a:prstGeom prst="rect">
            <a:avLst/>
          </a:prstGeom>
          <a:gradFill rotWithShape="0">
            <a:gsLst>
              <a:gs pos="0">
                <a:srgbClr val="fdbf63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5" name="Rectangle 9"/>
          <p:cNvSpPr/>
          <p:nvPr/>
        </p:nvSpPr>
        <p:spPr>
          <a:xfrm flipH="1">
            <a:off x="43560" y="6713640"/>
            <a:ext cx="8705880" cy="98280"/>
          </a:xfrm>
          <a:prstGeom prst="rect">
            <a:avLst/>
          </a:prstGeom>
          <a:gradFill rotWithShape="0">
            <a:gsLst>
              <a:gs pos="0">
                <a:srgbClr val="fdbf63"/>
              </a:gs>
              <a:gs pos="100000">
                <a:srgbClr val="fdbf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6" name="Rectangle 9"/>
          <p:cNvSpPr/>
          <p:nvPr/>
        </p:nvSpPr>
        <p:spPr>
          <a:xfrm flipH="1" flipV="1" rot="18643800">
            <a:off x="8683560" y="6645960"/>
            <a:ext cx="238320" cy="90720"/>
          </a:xfrm>
          <a:prstGeom prst="rect">
            <a:avLst/>
          </a:prstGeom>
          <a:gradFill rotWithShape="0">
            <a:gsLst>
              <a:gs pos="0">
                <a:srgbClr val="fdbf63"/>
              </a:gs>
              <a:gs pos="100000">
                <a:srgbClr val="fdbf63"/>
              </a:gs>
            </a:gsLst>
            <a:lin ang="83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3920" bIns="43920" anchor="t" anchorCtr="1" vert="eaVert" rot="10800000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7" name="Rectangle 9"/>
          <p:cNvSpPr/>
          <p:nvPr/>
        </p:nvSpPr>
        <p:spPr>
          <a:xfrm flipH="1" rot="10800000">
            <a:off x="8848800" y="6573960"/>
            <a:ext cx="350640" cy="10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dbf6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 rot="10800000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8" name="Rectangle 9"/>
          <p:cNvSpPr/>
          <p:nvPr/>
        </p:nvSpPr>
        <p:spPr>
          <a:xfrm flipH="1" rot="10800000">
            <a:off x="3600" y="6713280"/>
            <a:ext cx="1460520" cy="90360"/>
          </a:xfrm>
          <a:prstGeom prst="rect">
            <a:avLst/>
          </a:prstGeom>
          <a:gradFill rotWithShape="0">
            <a:gsLst>
              <a:gs pos="0">
                <a:srgbClr val="fdbf6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3560" bIns="43560" anchor="ctr" rot="10800000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 flipH="1">
            <a:off x="-1440" y="6797520"/>
            <a:ext cx="1170000" cy="0"/>
          </a:xfrm>
          <a:prstGeom prst="line">
            <a:avLst/>
          </a:prstGeom>
          <a:ln w="19080">
            <a:solidFill>
              <a:srgbClr val="fdb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1440" y="704880"/>
            <a:ext cx="4051440" cy="0"/>
          </a:xfrm>
          <a:prstGeom prst="line">
            <a:avLst/>
          </a:prstGeom>
          <a:ln w="19080">
            <a:solidFill>
              <a:srgbClr val="fdb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21" name="Rectangle 9"/>
          <p:cNvSpPr/>
          <p:nvPr/>
        </p:nvSpPr>
        <p:spPr>
          <a:xfrm>
            <a:off x="8464680" y="131760"/>
            <a:ext cx="449280" cy="28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dbf6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22" name="Text Box 11"/>
          <p:cNvSpPr/>
          <p:nvPr/>
        </p:nvSpPr>
        <p:spPr>
          <a:xfrm>
            <a:off x="9180000" y="6537240"/>
            <a:ext cx="639360" cy="152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it-IT" sz="1000" spc="-1" strike="noStrike">
                <a:solidFill>
                  <a:srgbClr val="ff9933"/>
                </a:solidFill>
                <a:latin typeface="Arial"/>
              </a:rPr>
              <a:t>www.acbi.it</a:t>
            </a:r>
            <a:endParaRPr b="0" lang="en-US" sz="1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sldNum" idx="1"/>
          </p:nvPr>
        </p:nvSpPr>
        <p:spPr>
          <a:xfrm>
            <a:off x="56880" y="6451560"/>
            <a:ext cx="1230120" cy="36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  <a:defRPr b="0" lang="it-IT" sz="1400" spc="-1" strike="noStrike">
                <a:solidFill>
                  <a:srgbClr val="004785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2B7296E9-5BB6-4231-8A9D-0CF20B6F7E71}" type="slidenum">
              <a:rPr b="0" lang="it-IT" sz="1400" spc="-1" strike="noStrike">
                <a:solidFill>
                  <a:srgbClr val="004785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BS01022_"/>
          <p:cNvPicPr/>
          <p:nvPr/>
        </p:nvPicPr>
        <p:blipFill>
          <a:blip r:embed="rId1"/>
          <a:stretch/>
        </p:blipFill>
        <p:spPr>
          <a:xfrm>
            <a:off x="8224920" y="3159000"/>
            <a:ext cx="576360" cy="4906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 flipH="1">
            <a:off x="7771680" y="3717720"/>
            <a:ext cx="138924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1000" spc="-1" strike="noStrike">
                <a:solidFill>
                  <a:srgbClr val="004785"/>
                </a:solidFill>
                <a:latin typeface="Arial"/>
              </a:rPr>
              <a:t>Banca Passiva</a:t>
            </a:r>
            <a:endParaRPr b="0" lang="en-US" sz="1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 flipH="1">
            <a:off x="2910600" y="3713040"/>
            <a:ext cx="135108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1000" spc="-1" strike="noStrike">
                <a:solidFill>
                  <a:srgbClr val="004785"/>
                </a:solidFill>
                <a:latin typeface="Arial"/>
              </a:rPr>
              <a:t>Banca Proponente</a:t>
            </a:r>
            <a:endParaRPr b="0" lang="en-US" sz="1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 flipH="1">
            <a:off x="4480920" y="3995640"/>
            <a:ext cx="342108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1: Invio informazioni tasso attivo (richiesta servizio)</a:t>
            </a:r>
            <a:endParaRPr b="0" lang="en-US" sz="1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 flipH="1">
            <a:off x="2090160" y="4025520"/>
            <a:ext cx="14396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: Parsing del messaggio (validazione XML/XSD) </a:t>
            </a:r>
            <a:endParaRPr b="0" lang="en-US" sz="1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 flipH="1">
            <a:off x="3983040" y="4741920"/>
            <a:ext cx="4238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: Invio risposta applicativa</a:t>
            </a:r>
            <a:endParaRPr b="0" lang="en-US" sz="1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6" name="Line 17"/>
          <p:cNvSpPr/>
          <p:nvPr/>
        </p:nvSpPr>
        <p:spPr>
          <a:xfrm flipH="1" flipV="1">
            <a:off x="3703680" y="3657240"/>
            <a:ext cx="1440" cy="11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7" name="Rectangle 21"/>
          <p:cNvSpPr/>
          <p:nvPr/>
        </p:nvSpPr>
        <p:spPr>
          <a:xfrm flipH="1">
            <a:off x="8476560" y="3989520"/>
            <a:ext cx="183960" cy="15876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8" name="Line 25"/>
          <p:cNvSpPr/>
          <p:nvPr/>
        </p:nvSpPr>
        <p:spPr>
          <a:xfrm flipH="1">
            <a:off x="3873240" y="4148280"/>
            <a:ext cx="478764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69" name="Line 26"/>
          <p:cNvSpPr/>
          <p:nvPr/>
        </p:nvSpPr>
        <p:spPr>
          <a:xfrm>
            <a:off x="3808440" y="5021280"/>
            <a:ext cx="4659120" cy="14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70" name="Rectangle 36"/>
          <p:cNvSpPr/>
          <p:nvPr/>
        </p:nvSpPr>
        <p:spPr>
          <a:xfrm flipH="1">
            <a:off x="3644280" y="4148280"/>
            <a:ext cx="206280" cy="10810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71" name="Text Box 38"/>
          <p:cNvSpPr/>
          <p:nvPr/>
        </p:nvSpPr>
        <p:spPr>
          <a:xfrm flipH="1">
            <a:off x="2059920" y="4536720"/>
            <a:ext cx="17478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3: Controlli applicativi sui dati ricevuti</a:t>
            </a:r>
            <a:endParaRPr b="0" lang="en-US" sz="1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72" name="Line 19"/>
          <p:cNvSpPr/>
          <p:nvPr/>
        </p:nvSpPr>
        <p:spPr>
          <a:xfrm flipH="1">
            <a:off x="8578440" y="3648240"/>
            <a:ext cx="1800" cy="1446120"/>
          </a:xfrm>
          <a:prstGeom prst="line">
            <a:avLst/>
          </a:prstGeom>
          <a:ln w="64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73" name="Line 20"/>
          <p:cNvSpPr/>
          <p:nvPr/>
        </p:nvSpPr>
        <p:spPr>
          <a:xfrm flipH="1">
            <a:off x="3739680" y="3654360"/>
            <a:ext cx="1800" cy="1408320"/>
          </a:xfrm>
          <a:prstGeom prst="line">
            <a:avLst/>
          </a:prstGeom>
          <a:ln w="64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74" name="Oval 30"/>
          <p:cNvSpPr/>
          <p:nvPr/>
        </p:nvSpPr>
        <p:spPr>
          <a:xfrm flipH="1">
            <a:off x="8502480" y="4937040"/>
            <a:ext cx="174960" cy="17316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</p:txBody>
      </p:sp>
      <p:pic>
        <p:nvPicPr>
          <p:cNvPr id="75" name="Picture 4" descr="BS01022_"/>
          <p:cNvPicPr/>
          <p:nvPr/>
        </p:nvPicPr>
        <p:blipFill>
          <a:blip r:embed="rId2"/>
          <a:stretch/>
        </p:blipFill>
        <p:spPr>
          <a:xfrm>
            <a:off x="3449520" y="3159000"/>
            <a:ext cx="576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76" name=""/>
          <p:cNvGrpSpPr/>
          <p:nvPr/>
        </p:nvGrpSpPr>
        <p:grpSpPr>
          <a:xfrm>
            <a:off x="750960" y="3068640"/>
            <a:ext cx="360360" cy="576360"/>
            <a:chOff x="750960" y="3068640"/>
            <a:chExt cx="360360" cy="576360"/>
          </a:xfrm>
        </p:grpSpPr>
        <p:sp>
          <p:nvSpPr>
            <p:cNvPr id="77" name=""/>
            <p:cNvSpPr/>
            <p:nvPr/>
          </p:nvSpPr>
          <p:spPr>
            <a:xfrm>
              <a:off x="750960" y="3068640"/>
              <a:ext cx="360360" cy="576360"/>
            </a:xfrm>
            <a:custGeom>
              <a:avLst/>
              <a:gdLst/>
              <a:ahLst/>
              <a:rect l="l" t="t" r="r" b="b"/>
              <a:pathLst>
                <a:path w="664" h="748">
                  <a:moveTo>
                    <a:pt x="96" y="0"/>
                  </a:moveTo>
                  <a:lnTo>
                    <a:pt x="447" y="0"/>
                  </a:lnTo>
                  <a:lnTo>
                    <a:pt x="551" y="92"/>
                  </a:lnTo>
                  <a:lnTo>
                    <a:pt x="551" y="417"/>
                  </a:lnTo>
                  <a:lnTo>
                    <a:pt x="571" y="417"/>
                  </a:lnTo>
                  <a:lnTo>
                    <a:pt x="664" y="504"/>
                  </a:lnTo>
                  <a:lnTo>
                    <a:pt x="664" y="748"/>
                  </a:lnTo>
                  <a:lnTo>
                    <a:pt x="96" y="748"/>
                  </a:lnTo>
                  <a:lnTo>
                    <a:pt x="0" y="660"/>
                  </a:lnTo>
                  <a:lnTo>
                    <a:pt x="0" y="418"/>
                  </a:lnTo>
                  <a:lnTo>
                    <a:pt x="96" y="418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4785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05680" y="3084840"/>
              <a:ext cx="293760" cy="544320"/>
            </a:xfrm>
            <a:custGeom>
              <a:avLst/>
              <a:gdLst/>
              <a:ahLst/>
              <a:rect l="l" t="t" r="r" b="b"/>
              <a:pathLst>
                <a:path w="541" h="705">
                  <a:moveTo>
                    <a:pt x="20" y="0"/>
                  </a:moveTo>
                  <a:lnTo>
                    <a:pt x="336" y="0"/>
                  </a:lnTo>
                  <a:lnTo>
                    <a:pt x="426" y="83"/>
                  </a:lnTo>
                  <a:lnTo>
                    <a:pt x="426" y="490"/>
                  </a:lnTo>
                  <a:lnTo>
                    <a:pt x="450" y="490"/>
                  </a:lnTo>
                  <a:lnTo>
                    <a:pt x="450" y="417"/>
                  </a:lnTo>
                  <a:lnTo>
                    <a:pt x="463" y="417"/>
                  </a:lnTo>
                  <a:lnTo>
                    <a:pt x="541" y="492"/>
                  </a:lnTo>
                  <a:lnTo>
                    <a:pt x="541" y="705"/>
                  </a:lnTo>
                  <a:lnTo>
                    <a:pt x="364" y="705"/>
                  </a:lnTo>
                  <a:lnTo>
                    <a:pt x="364" y="628"/>
                  </a:lnTo>
                  <a:lnTo>
                    <a:pt x="191" y="628"/>
                  </a:lnTo>
                  <a:lnTo>
                    <a:pt x="191" y="705"/>
                  </a:lnTo>
                  <a:lnTo>
                    <a:pt x="0" y="705"/>
                  </a:lnTo>
                  <a:lnTo>
                    <a:pt x="0" y="490"/>
                  </a:lnTo>
                  <a:lnTo>
                    <a:pt x="102" y="490"/>
                  </a:lnTo>
                  <a:lnTo>
                    <a:pt x="102" y="78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4785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033200" y="3571920"/>
              <a:ext cx="33840" cy="41040"/>
            </a:xfrm>
            <a:custGeom>
              <a:avLst/>
              <a:gdLst/>
              <a:ahLst/>
              <a:rect l="l" t="t" r="r" b="b"/>
              <a:pathLst>
                <a:path w="63" h="57">
                  <a:moveTo>
                    <a:pt x="0" y="0"/>
                  </a:moveTo>
                  <a:lnTo>
                    <a:pt x="63" y="0"/>
                  </a:lnTo>
                  <a:lnTo>
                    <a:pt x="63" y="57"/>
                  </a:lnTo>
                  <a:lnTo>
                    <a:pt x="39" y="57"/>
                  </a:lnTo>
                  <a:lnTo>
                    <a:pt x="39" y="22"/>
                  </a:ln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400" spc="-1" strike="noStrike">
                <a:solidFill>
                  <a:srgbClr val="004785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35560" y="3571920"/>
              <a:ext cx="32400" cy="41040"/>
            </a:xfrm>
            <a:custGeom>
              <a:avLst/>
              <a:gdLst/>
              <a:ahLst/>
              <a:rect l="l" t="t" r="r" b="b"/>
              <a:pathLst>
                <a:path w="60" h="57">
                  <a:moveTo>
                    <a:pt x="0" y="0"/>
                  </a:moveTo>
                  <a:lnTo>
                    <a:pt x="60" y="0"/>
                  </a:lnTo>
                  <a:lnTo>
                    <a:pt x="60" y="57"/>
                  </a:lnTo>
                  <a:lnTo>
                    <a:pt x="38" y="57"/>
                  </a:lnTo>
                  <a:lnTo>
                    <a:pt x="38" y="22"/>
                  </a:ln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400" spc="-1" strike="noStrike">
                <a:solidFill>
                  <a:srgbClr val="004785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33200" y="3506040"/>
              <a:ext cx="33840" cy="42480"/>
            </a:xfrm>
            <a:custGeom>
              <a:avLst/>
              <a:gdLst/>
              <a:ahLst/>
              <a:rect l="l" t="t" r="r" b="b"/>
              <a:pathLst>
                <a:path w="63" h="58">
                  <a:moveTo>
                    <a:pt x="0" y="0"/>
                  </a:moveTo>
                  <a:lnTo>
                    <a:pt x="63" y="0"/>
                  </a:lnTo>
                  <a:lnTo>
                    <a:pt x="63" y="58"/>
                  </a:lnTo>
                  <a:lnTo>
                    <a:pt x="39" y="58"/>
                  </a:lnTo>
                  <a:lnTo>
                    <a:pt x="39" y="22"/>
                  </a:ln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400" spc="-1" strike="noStrike">
                <a:solidFill>
                  <a:srgbClr val="004785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82440" y="3506040"/>
              <a:ext cx="33840" cy="42480"/>
            </a:xfrm>
            <a:custGeom>
              <a:avLst/>
              <a:gdLst/>
              <a:ahLst/>
              <a:rect l="l" t="t" r="r" b="b"/>
              <a:pathLst>
                <a:path w="60" h="58">
                  <a:moveTo>
                    <a:pt x="0" y="0"/>
                  </a:moveTo>
                  <a:lnTo>
                    <a:pt x="60" y="0"/>
                  </a:lnTo>
                  <a:lnTo>
                    <a:pt x="60" y="58"/>
                  </a:lnTo>
                  <a:lnTo>
                    <a:pt x="38" y="58"/>
                  </a:lnTo>
                  <a:lnTo>
                    <a:pt x="38" y="22"/>
                  </a:ln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400" spc="-1" strike="noStrike">
                <a:solidFill>
                  <a:srgbClr val="004785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34200" y="3506040"/>
              <a:ext cx="33840" cy="42480"/>
            </a:xfrm>
            <a:custGeom>
              <a:avLst/>
              <a:gdLst/>
              <a:ahLst/>
              <a:rect l="l" t="t" r="r" b="b"/>
              <a:pathLst>
                <a:path w="61" h="58">
                  <a:moveTo>
                    <a:pt x="0" y="0"/>
                  </a:moveTo>
                  <a:lnTo>
                    <a:pt x="61" y="0"/>
                  </a:lnTo>
                  <a:lnTo>
                    <a:pt x="61" y="58"/>
                  </a:lnTo>
                  <a:lnTo>
                    <a:pt x="38" y="58"/>
                  </a:lnTo>
                  <a:lnTo>
                    <a:pt x="38" y="22"/>
                  </a:ln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400" spc="-1" strike="noStrike">
                <a:solidFill>
                  <a:srgbClr val="004785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84880" y="3506040"/>
              <a:ext cx="30960" cy="42480"/>
            </a:xfrm>
            <a:custGeom>
              <a:avLst/>
              <a:gdLst/>
              <a:ahLst/>
              <a:rect l="l" t="t" r="r" b="b"/>
              <a:pathLst>
                <a:path w="61" h="58">
                  <a:moveTo>
                    <a:pt x="0" y="0"/>
                  </a:moveTo>
                  <a:lnTo>
                    <a:pt x="61" y="0"/>
                  </a:lnTo>
                  <a:lnTo>
                    <a:pt x="61" y="58"/>
                  </a:lnTo>
                  <a:lnTo>
                    <a:pt x="38" y="58"/>
                  </a:lnTo>
                  <a:lnTo>
                    <a:pt x="38" y="22"/>
                  </a:ln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400" spc="-1" strike="noStrike">
                <a:solidFill>
                  <a:srgbClr val="004785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35560" y="3506040"/>
              <a:ext cx="32400" cy="42480"/>
            </a:xfrm>
            <a:custGeom>
              <a:avLst/>
              <a:gdLst/>
              <a:ahLst/>
              <a:rect l="l" t="t" r="r" b="b"/>
              <a:pathLst>
                <a:path w="60" h="58">
                  <a:moveTo>
                    <a:pt x="0" y="0"/>
                  </a:moveTo>
                  <a:lnTo>
                    <a:pt x="60" y="0"/>
                  </a:lnTo>
                  <a:lnTo>
                    <a:pt x="60" y="58"/>
                  </a:lnTo>
                  <a:lnTo>
                    <a:pt x="38" y="58"/>
                  </a:lnTo>
                  <a:lnTo>
                    <a:pt x="38" y="22"/>
                  </a:ln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400" spc="-1" strike="noStrike">
                <a:solidFill>
                  <a:srgbClr val="004785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82440" y="3441600"/>
              <a:ext cx="33840" cy="43560"/>
            </a:xfrm>
            <a:custGeom>
              <a:avLst/>
              <a:gdLst/>
              <a:ahLst/>
              <a:rect l="l" t="t" r="r" b="b"/>
              <a:pathLst>
                <a:path w="60" h="56">
                  <a:moveTo>
                    <a:pt x="0" y="0"/>
                  </a:moveTo>
                  <a:lnTo>
                    <a:pt x="60" y="0"/>
                  </a:lnTo>
                  <a:lnTo>
                    <a:pt x="60" y="56"/>
                  </a:lnTo>
                  <a:lnTo>
                    <a:pt x="38" y="56"/>
                  </a:lnTo>
                  <a:lnTo>
                    <a:pt x="38" y="22"/>
                  </a:ln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400" spc="-1" strike="noStrike">
                <a:solidFill>
                  <a:srgbClr val="004785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34200" y="3441600"/>
              <a:ext cx="33840" cy="4356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0" y="0"/>
                  </a:moveTo>
                  <a:lnTo>
                    <a:pt x="61" y="0"/>
                  </a:lnTo>
                  <a:lnTo>
                    <a:pt x="61" y="56"/>
                  </a:lnTo>
                  <a:lnTo>
                    <a:pt x="38" y="56"/>
                  </a:lnTo>
                  <a:lnTo>
                    <a:pt x="38" y="22"/>
                  </a:ln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400" spc="-1" strike="noStrike">
                <a:solidFill>
                  <a:srgbClr val="004785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84880" y="3441600"/>
              <a:ext cx="30960" cy="4356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0" y="0"/>
                  </a:moveTo>
                  <a:lnTo>
                    <a:pt x="61" y="0"/>
                  </a:lnTo>
                  <a:lnTo>
                    <a:pt x="61" y="56"/>
                  </a:lnTo>
                  <a:lnTo>
                    <a:pt x="38" y="56"/>
                  </a:lnTo>
                  <a:lnTo>
                    <a:pt x="38" y="22"/>
                  </a:ln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400" spc="-1" strike="noStrike">
                <a:solidFill>
                  <a:srgbClr val="004785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82440" y="3377160"/>
              <a:ext cx="33840" cy="424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0" y="0"/>
                  </a:moveTo>
                  <a:lnTo>
                    <a:pt x="60" y="0"/>
                  </a:lnTo>
                  <a:lnTo>
                    <a:pt x="60" y="54"/>
                  </a:lnTo>
                  <a:lnTo>
                    <a:pt x="38" y="54"/>
                  </a:lnTo>
                  <a:lnTo>
                    <a:pt x="38" y="22"/>
                  </a:ln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400" spc="-1" strike="noStrike">
                <a:solidFill>
                  <a:srgbClr val="004785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34200" y="3377160"/>
              <a:ext cx="33840" cy="42480"/>
            </a:xfrm>
            <a:custGeom>
              <a:avLst/>
              <a:gdLst/>
              <a:ahLst/>
              <a:rect l="l" t="t" r="r" b="b"/>
              <a:pathLst>
                <a:path w="61" h="54">
                  <a:moveTo>
                    <a:pt x="0" y="0"/>
                  </a:moveTo>
                  <a:lnTo>
                    <a:pt x="61" y="0"/>
                  </a:lnTo>
                  <a:lnTo>
                    <a:pt x="61" y="54"/>
                  </a:lnTo>
                  <a:lnTo>
                    <a:pt x="38" y="54"/>
                  </a:lnTo>
                  <a:lnTo>
                    <a:pt x="38" y="22"/>
                  </a:ln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400" spc="-1" strike="noStrike">
                <a:solidFill>
                  <a:srgbClr val="004785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84880" y="3377160"/>
              <a:ext cx="30960" cy="42480"/>
            </a:xfrm>
            <a:custGeom>
              <a:avLst/>
              <a:gdLst/>
              <a:ahLst/>
              <a:rect l="l" t="t" r="r" b="b"/>
              <a:pathLst>
                <a:path w="61" h="54">
                  <a:moveTo>
                    <a:pt x="0" y="0"/>
                  </a:moveTo>
                  <a:lnTo>
                    <a:pt x="61" y="0"/>
                  </a:lnTo>
                  <a:lnTo>
                    <a:pt x="61" y="54"/>
                  </a:lnTo>
                  <a:lnTo>
                    <a:pt x="38" y="54"/>
                  </a:lnTo>
                  <a:lnTo>
                    <a:pt x="38" y="22"/>
                  </a:ln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400" spc="-1" strike="noStrike">
                <a:solidFill>
                  <a:srgbClr val="004785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82440" y="3314160"/>
              <a:ext cx="33840" cy="3960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0" y="0"/>
                  </a:moveTo>
                  <a:lnTo>
                    <a:pt x="60" y="0"/>
                  </a:lnTo>
                  <a:lnTo>
                    <a:pt x="60" y="54"/>
                  </a:lnTo>
                  <a:lnTo>
                    <a:pt x="38" y="54"/>
                  </a:lnTo>
                  <a:lnTo>
                    <a:pt x="38" y="22"/>
                  </a:ln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400" spc="-1" strike="noStrike">
                <a:solidFill>
                  <a:srgbClr val="004785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34200" y="3314160"/>
              <a:ext cx="33840" cy="39600"/>
            </a:xfrm>
            <a:custGeom>
              <a:avLst/>
              <a:gdLst/>
              <a:ahLst/>
              <a:rect l="l" t="t" r="r" b="b"/>
              <a:pathLst>
                <a:path w="61" h="54">
                  <a:moveTo>
                    <a:pt x="0" y="0"/>
                  </a:moveTo>
                  <a:lnTo>
                    <a:pt x="61" y="0"/>
                  </a:lnTo>
                  <a:lnTo>
                    <a:pt x="61" y="54"/>
                  </a:lnTo>
                  <a:lnTo>
                    <a:pt x="38" y="54"/>
                  </a:lnTo>
                  <a:lnTo>
                    <a:pt x="38" y="22"/>
                  </a:ln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400" spc="-1" strike="noStrike">
                <a:solidFill>
                  <a:srgbClr val="004785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84880" y="3314160"/>
              <a:ext cx="30960" cy="39600"/>
            </a:xfrm>
            <a:custGeom>
              <a:avLst/>
              <a:gdLst/>
              <a:ahLst/>
              <a:rect l="l" t="t" r="r" b="b"/>
              <a:pathLst>
                <a:path w="61" h="54">
                  <a:moveTo>
                    <a:pt x="0" y="0"/>
                  </a:moveTo>
                  <a:lnTo>
                    <a:pt x="61" y="0"/>
                  </a:lnTo>
                  <a:lnTo>
                    <a:pt x="61" y="54"/>
                  </a:lnTo>
                  <a:lnTo>
                    <a:pt x="38" y="54"/>
                  </a:lnTo>
                  <a:lnTo>
                    <a:pt x="38" y="22"/>
                  </a:ln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400" spc="-1" strike="noStrike">
                <a:solidFill>
                  <a:srgbClr val="004785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82440" y="3247920"/>
              <a:ext cx="33840" cy="41040"/>
            </a:xfrm>
            <a:custGeom>
              <a:avLst/>
              <a:gdLst/>
              <a:ahLst/>
              <a:rect l="l" t="t" r="r" b="b"/>
              <a:pathLst>
                <a:path w="60" h="55">
                  <a:moveTo>
                    <a:pt x="0" y="0"/>
                  </a:moveTo>
                  <a:lnTo>
                    <a:pt x="60" y="0"/>
                  </a:lnTo>
                  <a:lnTo>
                    <a:pt x="60" y="55"/>
                  </a:lnTo>
                  <a:lnTo>
                    <a:pt x="38" y="55"/>
                  </a:lnTo>
                  <a:lnTo>
                    <a:pt x="38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400" spc="-1" strike="noStrike">
                <a:solidFill>
                  <a:srgbClr val="004785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34200" y="3247920"/>
              <a:ext cx="33840" cy="41040"/>
            </a:xfrm>
            <a:custGeom>
              <a:avLst/>
              <a:gdLst/>
              <a:ahLst/>
              <a:rect l="l" t="t" r="r" b="b"/>
              <a:pathLst>
                <a:path w="61" h="55">
                  <a:moveTo>
                    <a:pt x="0" y="0"/>
                  </a:moveTo>
                  <a:lnTo>
                    <a:pt x="61" y="0"/>
                  </a:lnTo>
                  <a:lnTo>
                    <a:pt x="61" y="55"/>
                  </a:lnTo>
                  <a:lnTo>
                    <a:pt x="38" y="55"/>
                  </a:lnTo>
                  <a:lnTo>
                    <a:pt x="38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400" spc="-1" strike="noStrike">
                <a:solidFill>
                  <a:srgbClr val="004785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84880" y="3247920"/>
              <a:ext cx="30960" cy="41040"/>
            </a:xfrm>
            <a:custGeom>
              <a:avLst/>
              <a:gdLst/>
              <a:ahLst/>
              <a:rect l="l" t="t" r="r" b="b"/>
              <a:pathLst>
                <a:path w="61" h="55">
                  <a:moveTo>
                    <a:pt x="0" y="0"/>
                  </a:moveTo>
                  <a:lnTo>
                    <a:pt x="61" y="0"/>
                  </a:lnTo>
                  <a:lnTo>
                    <a:pt x="61" y="55"/>
                  </a:lnTo>
                  <a:lnTo>
                    <a:pt x="38" y="55"/>
                  </a:lnTo>
                  <a:lnTo>
                    <a:pt x="38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400" spc="-1" strike="noStrike">
                <a:solidFill>
                  <a:srgbClr val="004785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82440" y="3190320"/>
              <a:ext cx="33840" cy="43560"/>
            </a:xfrm>
            <a:custGeom>
              <a:avLst/>
              <a:gdLst/>
              <a:ahLst/>
              <a:rect l="l" t="t" r="r" b="b"/>
              <a:pathLst>
                <a:path w="60" h="56">
                  <a:moveTo>
                    <a:pt x="0" y="0"/>
                  </a:moveTo>
                  <a:lnTo>
                    <a:pt x="60" y="0"/>
                  </a:lnTo>
                  <a:lnTo>
                    <a:pt x="60" y="56"/>
                  </a:lnTo>
                  <a:lnTo>
                    <a:pt x="38" y="56"/>
                  </a:lnTo>
                  <a:lnTo>
                    <a:pt x="38" y="22"/>
                  </a:ln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400" spc="-1" strike="noStrike">
                <a:solidFill>
                  <a:srgbClr val="004785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34200" y="3190320"/>
              <a:ext cx="33840" cy="4356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0" y="0"/>
                  </a:moveTo>
                  <a:lnTo>
                    <a:pt x="61" y="0"/>
                  </a:lnTo>
                  <a:lnTo>
                    <a:pt x="61" y="56"/>
                  </a:lnTo>
                  <a:lnTo>
                    <a:pt x="38" y="56"/>
                  </a:lnTo>
                  <a:lnTo>
                    <a:pt x="38" y="22"/>
                  </a:ln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400" spc="-1" strike="noStrike">
                <a:solidFill>
                  <a:srgbClr val="004785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84880" y="3190320"/>
              <a:ext cx="30960" cy="4356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0" y="0"/>
                  </a:moveTo>
                  <a:lnTo>
                    <a:pt x="61" y="0"/>
                  </a:lnTo>
                  <a:lnTo>
                    <a:pt x="61" y="56"/>
                  </a:lnTo>
                  <a:lnTo>
                    <a:pt x="38" y="56"/>
                  </a:lnTo>
                  <a:lnTo>
                    <a:pt x="38" y="22"/>
                  </a:ln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400" spc="-1" strike="noStrike">
                <a:solidFill>
                  <a:srgbClr val="004785"/>
                </a:solidFill>
                <a:latin typeface="Arial"/>
              </a:endParaRPr>
            </a:p>
          </p:txBody>
        </p:sp>
      </p:grpSp>
      <p:sp>
        <p:nvSpPr>
          <p:cNvPr id="101" name="Text Box 8"/>
          <p:cNvSpPr/>
          <p:nvPr/>
        </p:nvSpPr>
        <p:spPr>
          <a:xfrm flipH="1">
            <a:off x="232560" y="3727080"/>
            <a:ext cx="135108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1000" spc="-1" strike="noStrike">
                <a:solidFill>
                  <a:srgbClr val="004785"/>
                </a:solidFill>
                <a:latin typeface="Arial"/>
              </a:rPr>
              <a:t>Azienda</a:t>
            </a:r>
            <a:endParaRPr b="0" lang="en-US" sz="1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02" name="Line 25"/>
          <p:cNvSpPr/>
          <p:nvPr/>
        </p:nvSpPr>
        <p:spPr>
          <a:xfrm flipH="1">
            <a:off x="944280" y="5229360"/>
            <a:ext cx="28717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03" name="Line 19"/>
          <p:cNvSpPr/>
          <p:nvPr/>
        </p:nvSpPr>
        <p:spPr>
          <a:xfrm flipH="1">
            <a:off x="912960" y="3659040"/>
            <a:ext cx="1440" cy="1570320"/>
          </a:xfrm>
          <a:prstGeom prst="line">
            <a:avLst/>
          </a:prstGeom>
          <a:ln w="64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 flipH="1">
            <a:off x="594720" y="5054400"/>
            <a:ext cx="342108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5: Inoltro informazioni tasso attivo</a:t>
            </a:r>
            <a:endParaRPr b="0" lang="en-US" sz="10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80653-2834-4627-BFAA-DB9BC3E91ED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701800" y="1719360"/>
            <a:ext cx="3364200" cy="4268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706920" y="1984320"/>
            <a:ext cx="125892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13240" y="5408640"/>
            <a:ext cx="1619280" cy="2714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n=STAT-RPT-PSD</a:t>
            </a:r>
            <a:endParaRPr b="0" lang="en-US" sz="12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14680" y="1808280"/>
            <a:ext cx="125892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00000" y="176364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i="1" lang="it-IT" sz="1400" spc="-1" strike="noStrike">
                <a:solidFill>
                  <a:srgbClr val="004785"/>
                </a:solidFill>
                <a:latin typeface="Arial"/>
              </a:rPr>
              <a:t>Esiti PSD</a:t>
            </a:r>
            <a:endParaRPr b="0" lang="en-US" sz="1400" spc="-1" strike="noStrike">
              <a:solidFill>
                <a:srgbClr val="004785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67C97-BCFF-4C56-AEFF-61D213FCB1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09:56:38Z</dcterms:created>
  <dc:creator> </dc:creator>
  <dc:description/>
  <dc:language>en-US</dc:language>
  <cp:lastModifiedBy>i.gargiulo</cp:lastModifiedBy>
  <dcterms:modified xsi:type="dcterms:W3CDTF">2010-07-01T14:06:00Z</dcterms:modified>
  <cp:revision>478</cp:revision>
  <dc:subject/>
  <dc:title>Riunione TFFT 5 Giugno 200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igrationWizId">
    <vt:lpwstr>22802e1d-da5e-54b4-8fbc-3b4b856a77fc</vt:lpwstr>
  </property>
  <property fmtid="{D5CDD505-2E9C-101B-9397-08002B2CF9AE}" pid="3" name="Order">
    <vt:lpwstr>7800.00000000000</vt:lpwstr>
  </property>
  <property fmtid="{D5CDD505-2E9C-101B-9397-08002B2CF9AE}" pid="4" name="display_urn:schemas-microsoft-com:office:office#Author">
    <vt:lpwstr>Gargiulo Ivana</vt:lpwstr>
  </property>
  <property fmtid="{D5CDD505-2E9C-101B-9397-08002B2CF9AE}" pid="5" name="display_urn:schemas-microsoft-com:office:office#Editor">
    <vt:lpwstr>Gargiulo Ivana</vt:lpwstr>
  </property>
</Properties>
</file>